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191-8D3F-42F8-80DC-4C0EF994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DA2-63F8-4E31-BC26-22493AF5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227-3F39-4C73-8CF2-314E01BE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429-C1C9-4478-A0C2-03D1A128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3445-DCF5-400A-9FC6-25B63A06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759C-E15E-494C-8D3D-18492ECE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DE61-2BB2-46EC-9F8F-4BD12177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FCAF-1B8A-401C-A672-762A9167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A7F6-FD85-41FC-82A5-FC2520FD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EE1B-6AFE-420C-AFAF-4F8BA9C8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518E-90A3-47E1-9757-EE561E9C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BD6-51C0-4856-9D42-31FF6D6F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D121-0EFF-42CD-BE6F-40976D23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81F3-DD77-43CA-B22A-632895DA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D7C3-3D16-483C-822D-4FBA4A16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A1BB-4236-4121-8D7B-4B732868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E969-8EB4-4DB3-8F02-F0EF842A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7D1-1536-4346-9637-85AC3653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F06-45B9-415D-BD28-3ABB8BB0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976-4680-4F71-95AF-177C9111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2B5-A472-4470-A6D9-49EA4520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431-9DD9-4C03-8B42-91B4FDE8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6C7-5CE5-415C-ADE9-9309E30E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958-1DAE-46F7-A315-D8A6E718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775F-25EC-4689-8934-0F269247E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F880-A7BA-4999-B897-AB9815725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s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t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w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fall.com/n/skills/ch/load.htm?f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2 letters that make 1 sound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= di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 ch sh 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048120"/>
            <a:ext cx="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1825920" cy="1792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2133720" cy="167616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1905120" y="350532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5486400" y="3581280"/>
            <a:ext cx="1676520" cy="1600200"/>
          </a:xfrm>
          <a:custGeom>
            <a:avLst/>
            <a:gdLst>
              <a:gd name="textAreaLeft" fmla="*/ 103680 w 1676520"/>
              <a:gd name="textAreaRight" fmla="*/ 1572840 w 16765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84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739152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1974960" cy="1698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6553080" y="3733920"/>
            <a:ext cx="91440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43000" y="3514680"/>
            <a:ext cx="2514600" cy="186696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lastslide"/>
          </p:cNvPr>
          <p:cNvSpPr/>
          <p:nvPr/>
        </p:nvSpPr>
        <p:spPr>
          <a:xfrm>
            <a:off x="1066680" y="358128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800600" y="3657600"/>
            <a:ext cx="1828800" cy="1600200"/>
          </a:xfrm>
          <a:custGeom>
            <a:avLst/>
            <a:gdLst>
              <a:gd name="textAreaLeft" fmla="*/ 103680 w 1828800"/>
              <a:gd name="textAreaRight" fmla="*/ 1725120 w 18288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4685" h="21600">
                <a:moveTo>
                  <a:pt x="0" y="0"/>
                </a:moveTo>
                <a:lnTo>
                  <a:pt x="24685" y="0"/>
                </a:lnTo>
                <a:lnTo>
                  <a:pt x="24685" y="21600"/>
                </a:lnTo>
                <a:lnTo>
                  <a:pt x="0" y="21600"/>
                </a:lnTo>
                <a:close/>
              </a:path>
              <a:path fill="lightenLess" w="24685" h="21600">
                <a:moveTo>
                  <a:pt x="0" y="0"/>
                </a:moveTo>
                <a:lnTo>
                  <a:pt x="24685" y="0"/>
                </a:lnTo>
                <a:lnTo>
                  <a:pt x="23285" y="1400"/>
                </a:lnTo>
                <a:lnTo>
                  <a:pt x="1400" y="1400"/>
                </a:lnTo>
                <a:close/>
              </a:path>
              <a:path fill="darken" w="24685" h="21600">
                <a:moveTo>
                  <a:pt x="24685" y="0"/>
                </a:moveTo>
                <a:lnTo>
                  <a:pt x="24685" y="21600"/>
                </a:lnTo>
                <a:lnTo>
                  <a:pt x="23285" y="20200"/>
                </a:lnTo>
                <a:lnTo>
                  <a:pt x="23285" y="1400"/>
                </a:lnTo>
                <a:close/>
              </a:path>
              <a:path fill="darkenLess" w="24685" h="21600">
                <a:moveTo>
                  <a:pt x="24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5" y="20200"/>
                </a:lnTo>
                <a:close/>
              </a:path>
              <a:path fill="lighten" w="24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84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746748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You’re Do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4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y Again Please.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on the arrow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 flipH="1">
            <a:off x="3809520" y="350532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4114800" y="3505320"/>
            <a:ext cx="1447920" cy="19047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904760"/>
              <a:gd name="textAreaBottom" fmla="*/ 1811160 h 1904760"/>
            </a:gdLst>
            <a:ahLst/>
            <a:rect l="textAreaLeft" t="textAreaTop" r="textAreaRight" b="textAreaBottom"/>
            <a:pathLst>
              <a:path w="21600" h="28413">
                <a:moveTo>
                  <a:pt x="0" y="0"/>
                </a:moveTo>
                <a:lnTo>
                  <a:pt x="21600" y="0"/>
                </a:lnTo>
                <a:lnTo>
                  <a:pt x="21600" y="28413"/>
                </a:lnTo>
                <a:lnTo>
                  <a:pt x="0" y="28413"/>
                </a:lnTo>
                <a:close/>
              </a:path>
              <a:path fill="lightenLess" w="21600" h="28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13">
                <a:moveTo>
                  <a:pt x="21600" y="0"/>
                </a:moveTo>
                <a:lnTo>
                  <a:pt x="21600" y="28413"/>
                </a:lnTo>
                <a:lnTo>
                  <a:pt x="20200" y="27013"/>
                </a:lnTo>
                <a:lnTo>
                  <a:pt x="20200" y="1400"/>
                </a:lnTo>
                <a:close/>
              </a:path>
              <a:path fill="darkenLess" w="21600" h="28413">
                <a:moveTo>
                  <a:pt x="21600" y="28413"/>
                </a:moveTo>
                <a:lnTo>
                  <a:pt x="0" y="28413"/>
                </a:lnTo>
                <a:lnTo>
                  <a:pt x="1400" y="27013"/>
                </a:lnTo>
                <a:lnTo>
                  <a:pt x="20200" y="27013"/>
                </a:lnTo>
                <a:close/>
              </a:path>
              <a:path fill="lighten" w="21600" h="28413">
                <a:moveTo>
                  <a:pt x="0" y="28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wh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1486080" cy="1506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1897200" cy="93996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523880" y="3505320"/>
            <a:ext cx="1447920" cy="14475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lastslide"/>
          </p:cNvPr>
          <p:cNvSpPr/>
          <p:nvPr/>
        </p:nvSpPr>
        <p:spPr>
          <a:xfrm>
            <a:off x="5257800" y="36576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4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w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the picture that make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1733400" cy="1820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V="1">
            <a:off x="2362320" y="4571640"/>
            <a:ext cx="380880" cy="1066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057400" y="3429000"/>
            <a:ext cx="1752480" cy="1600200"/>
          </a:xfrm>
          <a:custGeom>
            <a:avLst/>
            <a:gdLst>
              <a:gd name="textAreaLeft" fmla="*/ 103680 w 1752480"/>
              <a:gd name="textAreaRight" fmla="*/ 1648800 w 1752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3655" h="21600">
                <a:moveTo>
                  <a:pt x="0" y="0"/>
                </a:moveTo>
                <a:lnTo>
                  <a:pt x="23655" y="0"/>
                </a:lnTo>
                <a:lnTo>
                  <a:pt x="23655" y="21600"/>
                </a:lnTo>
                <a:lnTo>
                  <a:pt x="0" y="21600"/>
                </a:lnTo>
                <a:close/>
              </a:path>
              <a:path fill="lightenLess" w="23655" h="21600">
                <a:moveTo>
                  <a:pt x="0" y="0"/>
                </a:moveTo>
                <a:lnTo>
                  <a:pt x="23655" y="0"/>
                </a:lnTo>
                <a:lnTo>
                  <a:pt x="22255" y="1400"/>
                </a:lnTo>
                <a:lnTo>
                  <a:pt x="1400" y="1400"/>
                </a:lnTo>
                <a:close/>
              </a:path>
              <a:path fill="darken" w="23655" h="21600">
                <a:moveTo>
                  <a:pt x="23655" y="0"/>
                </a:moveTo>
                <a:lnTo>
                  <a:pt x="23655" y="21600"/>
                </a:lnTo>
                <a:lnTo>
                  <a:pt x="22255" y="20200"/>
                </a:lnTo>
                <a:lnTo>
                  <a:pt x="22255" y="1400"/>
                </a:lnTo>
                <a:close/>
              </a:path>
              <a:path fill="darkenLess" w="23655" h="21600">
                <a:moveTo>
                  <a:pt x="23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5" y="20200"/>
                </a:lnTo>
                <a:close/>
              </a:path>
              <a:path fill="lighten" w="23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5486400" y="3581280"/>
            <a:ext cx="1500120" cy="1600200"/>
          </a:xfrm>
          <a:custGeom>
            <a:avLst/>
            <a:gdLst>
              <a:gd name="textAreaLeft" fmla="*/ 97200 w 1500120"/>
              <a:gd name="textAreaRight" fmla="*/ 1402920 w 1500120"/>
              <a:gd name="textAreaTop" fmla="*/ 97200 h 1600200"/>
              <a:gd name="textAreaBottom" fmla="*/ 1503000 h 1600200"/>
            </a:gdLst>
            <a:ahLst/>
            <a:rect l="textAreaLeft" t="textAreaTop" r="textAreaRight" b="textAreaBottom"/>
            <a:pathLst>
              <a:path w="21600" h="23041">
                <a:moveTo>
                  <a:pt x="0" y="0"/>
                </a:moveTo>
                <a:lnTo>
                  <a:pt x="21600" y="0"/>
                </a:lnTo>
                <a:lnTo>
                  <a:pt x="21600" y="23041"/>
                </a:lnTo>
                <a:lnTo>
                  <a:pt x="0" y="23041"/>
                </a:lnTo>
                <a:close/>
              </a:path>
              <a:path fill="lightenLess" w="21600" h="230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1">
                <a:moveTo>
                  <a:pt x="21600" y="0"/>
                </a:moveTo>
                <a:lnTo>
                  <a:pt x="21600" y="23041"/>
                </a:lnTo>
                <a:lnTo>
                  <a:pt x="20200" y="21641"/>
                </a:lnTo>
                <a:lnTo>
                  <a:pt x="20200" y="1400"/>
                </a:lnTo>
                <a:close/>
              </a:path>
              <a:path fill="darkenLess" w="21600" h="23041">
                <a:moveTo>
                  <a:pt x="21600" y="23041"/>
                </a:moveTo>
                <a:lnTo>
                  <a:pt x="0" y="23041"/>
                </a:lnTo>
                <a:lnTo>
                  <a:pt x="1400" y="21641"/>
                </a:lnTo>
                <a:lnTo>
                  <a:pt x="20200" y="21641"/>
                </a:lnTo>
                <a:close/>
              </a:path>
              <a:path fill="lighten" w="21600" h="23041">
                <a:moveTo>
                  <a:pt x="0" y="230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REAT JOB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4267080" cy="25606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467480" y="55627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84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below to watch a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124080"/>
            <a:ext cx="2163600" cy="19162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7150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t least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ds from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23:30Z</dcterms:created>
  <dc:creator>BCPS</dc:creator>
  <dc:description/>
  <dc:language>en-US</dc:language>
  <cp:lastModifiedBy>Beth Ann</cp:lastModifiedBy>
  <dcterms:modified xsi:type="dcterms:W3CDTF">2009-04-13T01:58:42Z</dcterms:modified>
  <cp:revision>10</cp:revision>
  <dc:subject/>
  <dc:title>2 letters that make 1 sound</dc:title>
</cp:coreProperties>
</file>